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explode.wav" ContentType="audio/x-wav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cashreg.wav" ContentType="audio/x-wav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F914-2C9A-41D5-A051-47CF2D8B3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161F-A066-4753-909E-75329EA1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EE18-6FF2-4A92-8D5F-96A489E0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1308-2D11-4E67-8663-2AFD5639A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0ED3-E3C3-4636-9028-FEA8E9306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108C-ABD0-4500-A24C-6333B616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9141-6FF9-4B3B-89D2-E5333B31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7DE3-3AB4-4603-BAFE-85A2C6B9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8CDE-3469-4099-895A-90693678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6AFA-DDE3-4760-9932-05C380A9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9160-DCE5-4EC0-8591-8C4267A2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5D98-E94C-4AEB-AB53-D1CDCC49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1A71-FBDB-498E-8C81-424C873C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58D9-3084-4C13-87C7-C2252C12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1903-89ED-4F96-B510-539B3E62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EAAA-1092-45D7-860F-3E1D1A69B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147D-C3B3-4A19-9280-2DC212828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F064-EA64-44AF-BABA-107FF58B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EF7D-C82C-454C-B1D9-B73CF11B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9601-3731-4888-93CC-41924306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E093-DF22-43D4-BEBF-13A991A5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E735-A997-45DB-819D-E00F497E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F332-D4E6-4901-8742-BA64FBE3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538E-D1E5-4040-99D1-B18B9CA6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E485-3E4B-4601-9362-DEDDD9D266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B4DB-285B-4671-AD81-11367CDD9A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98100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000000"/>
                </a:solidFill>
                <a:uFillTx/>
                <a:latin typeface="Cooper Black"/>
              </a:rPr>
              <a:t>BUSHMEAT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360" y="3284640"/>
            <a:ext cx="71816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pperplate Gothic Bold"/>
              </a:rPr>
              <a:t>A CURRENT WILDLIF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0021"/>
                </a:solidFill>
                <a:latin typeface="Stencil"/>
              </a:rPr>
              <a:t>C R I S I 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animMotion origin="layout" path="M 0 0 C -0.022 -0.02267 -0.033 -0.06133 -0.027 -0.1 C -0.024 -0.11333 -0.02 -0.12667 -0.014 -0.13733 C -0.01 -0.10667 0.004 -0.07867 0.025 -0.06133 C 0.025 -0.09867 0.041 -0.13467 0.068 -0.15067 C 0.077 -0.15733 0.087 -0.16 0.097 -0.16133 C 0.082 -0.13867 0.074 -0.10667 0.077 -0.07333 C 0.099 -0.09733 0.13 -0.10267 0.157 -0.08533 C 0.166 -0.08 0.175 -0.07067 0.181 -0.06133 C 0.158 -0.064 0.134 -0.052 0.117 -0.028 C 0.144 -0.02 0.167 0.008 0.174 0.04667 C 0.176 0.06 0.176 0.07333 0.174 0.08667 C 0.161 0.06133 0.139 0.044 0.115 0.04133 C 0.127 0.07467 0.124 0.116 0.106 0.14667 C 0.099 0.15733 0.091 0.16667 0.082 0.172 C 0.089 0.14267 0.085 0.10933 0.072 0.08267 C 0.06 0.116 0.034 0.13867 0.004 0.13867 C -0.007 0.13867 -0.017 0.136 -0.026 0.13067 C -0.004 0.12 0.013 0.09467 0.021 0.064 C -0.007 0.072 -0.036 0.06 -0.055 0.02933 C -0.062 0.01733 -0.066 0.00533 -0.069 -0.008 C -0.049 0.00933 -0.023 0.012 0 0 Z">
                                      <p:cBhvr>
                                        <p:cTn id="11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The Bushmeat Crisi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ushm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eat derived from forest wild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ny wildlife species in Africa and A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ultural signific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r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Many endangered spe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Local and International delica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Corruption and Prof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1052280"/>
            <a:ext cx="27972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i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late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2836800"/>
            <a:ext cx="4824360" cy="3110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572000" y="674640"/>
            <a:ext cx="2232000" cy="16765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Bar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ffffb7"/>
                </a:solidFill>
                <a:latin typeface="Calisto MT"/>
              </a:rPr>
              <a:t>Mining of Coltan (Tantalum)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Used in the manufacture of miniature electronic compon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obile Phones, Laptops and Game-bo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Large deposits in DRC National Pa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llegal mining by thousands of wor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ilitary corruption; Rebel figh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emand for Coltan related to demand for Mobile Ph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250" autoRev="1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250" autoRev="1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250" autoRev="1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250" autoRev="1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250" autoRev="1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Calisto MT"/>
              </a:rPr>
              <a:t>Tantalum: World Price 1995 - 2001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302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ld Price for Tantalum in 2000 topped $300 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of x 10 from 199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ll to $ 45 US in 200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211640" y="1413000"/>
          <a:ext cx="462456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413000"/>
                    <a:ext cx="462456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14400" y="2924280"/>
          <a:ext cx="3876480" cy="260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00" y="2924280"/>
                    <a:ext cx="387648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newsflash/>
    <p:sndAc>
      <p:stSnd>
        <p:snd r:embed="rId5" name="cashreg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900"/>
                            </p:stCondLst>
                            <p:childTnLst>
                              <p:par>
                                <p:cTn id="123" nodeType="afterEffect" fill="hold" presetClass="exit" presetID="4" presetSubtype="16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12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8" presetSubtype="16">
                                  <p:stCondLst>
                                    <p:cond delay="3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6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xit" presetID="5" presetSubtype="10">
                                  <p:stCondLst>
                                    <p:cond delay="3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8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Georgia"/>
              </a:rPr>
              <a:t>By-Products of the Crisi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165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t T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bitat L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ease Transmission (e.g. SA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s of Genetic D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292720" y="2205000"/>
            <a:ext cx="3313080" cy="3746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What Can I do to Help 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ycle your Mobile Ph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pressure on Gover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reputabl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demand exotic fo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read the 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demand wild animals as p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demand exotic products and medici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Fact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s much as 10 tonnes of bushmeat arrives in London every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"/>
              </a:rPr>
              <a:t>By the year 2020 humans will be the only Great Ape living in the w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500 million mobile phones will be sold this year al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"/>
              </a:rPr>
              <a:t>90 % of the Eastern Lowland Gorilla population was lost in the last 5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1 Million tonnes of bushmeat is removed from the Congo Basin alone each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748720" cy="5976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68360" y="1052640"/>
            <a:ext cx="1727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Arial"/>
              </a:rPr>
              <a:t>Look at My Eyes ... Listen to Me ...</a:t>
            </a:r>
            <a:br>
              <a:rPr sz="2400"/>
            </a:br>
            <a:r>
              <a:rPr b="1" lang="en-US" sz="2400" spc="-1" strike="noStrike">
                <a:solidFill>
                  <a:srgbClr val="99ff66"/>
                </a:solidFill>
                <a:latin typeface="Arial"/>
              </a:rPr>
              <a:t>For I and my kind will be gone soon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20880" y="5877000"/>
            <a:ext cx="282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om: The Bushmeat Project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bushmeat.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3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45">
                                  <p:stCondLst>
                                    <p:cond delay="3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84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0T01:41:25Z</dcterms:created>
  <dc:creator>michael</dc:creator>
  <dc:description/>
  <dc:language>en-US</dc:language>
  <cp:lastModifiedBy>michael</cp:lastModifiedBy>
  <dcterms:modified xsi:type="dcterms:W3CDTF">2003-08-20T08:11:58Z</dcterms:modified>
  <cp:revision>3</cp:revision>
  <dc:subject/>
  <dc:title>The BUSHMEAT  CRISIS</dc:title>
</cp:coreProperties>
</file>