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cashreg.wav" ContentType="audio/x-wav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184-25B2-4D50-8BFA-79399133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A87-8FCF-4AA4-A93F-FD497D6B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043-51B4-45B3-9D55-6F90A7F0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D7D-218E-4229-86CF-114B3867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86DB-E97E-4E60-95CD-64CDBCEA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755B-922C-4010-BEC7-BB514AB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F82B-6C88-4CDC-98C1-FF18806F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B125-8064-43F6-8A6B-6067C39F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0D2-216E-40F6-BB50-489ED7D5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B6D9-1121-4CA1-B3A8-4DDF784A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597-938A-4949-9698-BD33749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F64-8B49-4787-B357-5234692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5BD-E954-4F60-9326-959D13DB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E11E-54E1-44CA-B41B-6944DAF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F219-16F9-4AC4-9533-590C042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D9C-649A-43F8-8824-20CD18FA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E632-3186-4D35-92D6-3C45087C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A8A-9187-4C60-AC9C-B853FCE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A8A-ECA9-48B7-B717-065E1646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37C-39D0-4167-9B2C-24DB406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E4A-FD93-47CE-AC75-42C48BD1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4AA-DB09-4DC5-8D3C-9F09EE0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F0E-C187-4AC9-B7F4-FD4AE0E1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4D0-17AA-4FE3-9223-1112A60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ACFB-7F8B-4D1D-9BA9-4A51C34DD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7EC3-B2FF-4B6A-A815-44EF695A3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Cooper Black"/>
              </a:rPr>
              <a:t>BUSHMEAT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284640"/>
            <a:ext cx="71816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 CURRENT WILD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0021"/>
                </a:solidFill>
                <a:latin typeface="Stencil"/>
              </a:rPr>
              <a:t>C R I S I 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Bushmeat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sh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t derived from forest wild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y wildlife species in Africa and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al 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any endangered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cal and International delic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orruption and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27972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e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836800"/>
            <a:ext cx="4824360" cy="311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674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b7"/>
                </a:solidFill>
                <a:latin typeface="Calisto MT"/>
              </a:rPr>
              <a:t>Mining of Coltan (Tantalu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d in the manufacture of miniature electronic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bile Phones, Laptops and Game-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rge deposits in DRC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llegal mining by thousands o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ilitary corruption; Rebel 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mand for Coltan related to demand for Mobile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alisto MT"/>
              </a:rPr>
              <a:t>Tantalum: World Price 1995 - 200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30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Price for Tantalum in 2000 topped $300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x 10 from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 to $ 45 US in 200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11640" y="1413000"/>
          <a:ext cx="462456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62456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00" y="2924280"/>
          <a:ext cx="387648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2924280"/>
                    <a:ext cx="38764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5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Georgia"/>
              </a:rPr>
              <a:t>By-Products of the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16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 Transmission (e.g. S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130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Can I do to Help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e your Mobile 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ressure o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reputabl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wild animals as p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products and medic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much as 10 tonnes of bushmeat arrives in London ever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By the year 2020 humans will be the only Great Ape living in the w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00 million mobile phones will be sold this year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90 % of the Eastern Lowland Gorilla population was lost in the last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Million tonnes of bushmeat is removed from the Congo Basin alone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1052640"/>
            <a:ext cx="17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Look at My Eyes ... Listen to Me ...</a:t>
            </a:r>
            <a:br>
              <a:rPr sz="2400"/>
            </a:b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For I and my kind will be gone so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0880" y="5877000"/>
            <a:ext cx="282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: The Bushmeat Pro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bushmeat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4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41:25Z</dcterms:created>
  <dc:creator>michael</dc:creator>
  <dc:description/>
  <dc:language>en-US</dc:language>
  <cp:lastModifiedBy>michael</cp:lastModifiedBy>
  <dcterms:modified xsi:type="dcterms:W3CDTF">2003-08-20T08:11:58Z</dcterms:modified>
  <cp:revision>3</cp:revision>
  <dc:subject/>
  <dc:title>The BUSHMEAT  CRISIS</dc:title>
</cp:coreProperties>
</file>