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cashreg.wav" ContentType="audio/x-wav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A1E-420C-40D9-AB1A-1E6528E4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258-B7C9-452D-9D38-5EB67060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74F-3182-4205-91D1-B88F7C91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170-22EA-49A5-9929-0E400C89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6730-BF89-4AE4-8FFE-3BAED26E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BE29-65E0-48BC-B26E-15FB9757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95DD-469F-4DBB-98E0-09473EB0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92F1-5B9E-4D48-A3B5-39579546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A24A-F028-4E89-9731-11B3F201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3F8B-6917-4CAB-B30F-9DF2E1DC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B0DE-7BEB-49D3-A342-646F194D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CA4-F384-4DBB-8727-999B363B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FBB4-BF4E-4385-88F6-6825386C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C315-0221-427D-B722-C82C9925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8ED1-660E-4221-97C8-CC966468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C8C5-2594-456D-960E-DE998AA1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E3F7-D044-465B-9FEE-27A1C473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291-6A94-4452-9EA7-DDCF24F2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F16-8B9B-497B-BDB6-E6222BA9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FCF-121B-4E3E-B923-20CBC3F9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53D-9AE5-42E5-B511-A4AC2CAD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EB5-93A6-467E-9BDD-2DEC309C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D0C-E3B3-47FF-9075-52BB0982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054-A212-4C86-8BC6-D7630A72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DC3C-954D-4E0A-911E-4FE2F3479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36E6-7F28-4078-8508-8596F739D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Cooper Black"/>
              </a:rPr>
              <a:t>BUSHMEAT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284640"/>
            <a:ext cx="71816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Bold"/>
              </a:rPr>
              <a:t>A CURRENT WILD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0021"/>
                </a:solidFill>
                <a:latin typeface="Stencil"/>
              </a:rPr>
              <a:t>C R I S I 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animMotion origin="layout" path="M 0 0 C -0.022 -0.02267 -0.033 -0.06133 -0.027 -0.1 C -0.024 -0.11333 -0.02 -0.12667 -0.014 -0.13733 C -0.01 -0.10667 0.004 -0.07867 0.025 -0.06133 C 0.025 -0.09867 0.041 -0.13467 0.068 -0.15067 C 0.077 -0.15733 0.087 -0.16 0.097 -0.16133 C 0.082 -0.13867 0.074 -0.10667 0.077 -0.07333 C 0.099 -0.09733 0.13 -0.10267 0.157 -0.08533 C 0.166 -0.08 0.175 -0.07067 0.181 -0.06133 C 0.158 -0.064 0.134 -0.052 0.117 -0.028 C 0.144 -0.02 0.167 0.008 0.174 0.04667 C 0.176 0.06 0.176 0.07333 0.174 0.08667 C 0.161 0.06133 0.139 0.044 0.115 0.04133 C 0.127 0.07467 0.124 0.116 0.106 0.14667 C 0.099 0.15733 0.091 0.16667 0.082 0.172 C 0.089 0.14267 0.085 0.10933 0.072 0.08267 C 0.06 0.116 0.034 0.13867 0.004 0.13867 C -0.007 0.13867 -0.017 0.136 -0.026 0.13067 C -0.004 0.12 0.013 0.09467 0.021 0.064 C -0.007 0.072 -0.036 0.06 -0.055 0.02933 C -0.062 0.01733 -0.066 0.00533 -0.069 -0.008 C -0.049 0.00933 -0.023 0.012 0 0 Z">
                                      <p:cBhvr>
                                        <p:cTn id="11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Bushmeat Crisi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ushm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eat derived from forest wild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y wildlife species in Africa and 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al signific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Many endangered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Local and International delic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orruption and Pro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8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052280"/>
            <a:ext cx="27972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i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e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836800"/>
            <a:ext cx="4824360" cy="311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572000" y="67464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b7"/>
                </a:solidFill>
                <a:latin typeface="Calisto MT"/>
              </a:rPr>
              <a:t>Mining of Coltan (Tantalum)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sed in the manufacture of miniature electronic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bile Phones, Laptops and Game-b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arge deposits in DRC National P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llegal mining by thousands of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ilitary corruption; Rebel fig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mand for Coltan related to demand for Mobile Ph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Calisto MT"/>
              </a:rPr>
              <a:t>Tantalum: World Price 1995 - 2001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302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Price for Tantalum in 2000 topped $300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of x 10 from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l to $ 45 US in 200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211640" y="1413000"/>
          <a:ext cx="462456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62456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4400" y="2924280"/>
          <a:ext cx="3876480" cy="26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2924280"/>
                    <a:ext cx="387648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  <p:sndAc>
      <p:stSnd>
        <p:snd r:embed="rId5" name="cashreg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900"/>
                            </p:stCondLst>
                            <p:childTnLst>
                              <p:par>
                                <p:cTn id="123" nodeType="afterEffect" fill="hold" presetClass="exit" presetID="4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8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6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Georgia"/>
              </a:rPr>
              <a:t>By-Products of the Crisi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165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bitat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ease Transmission (e.g. S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Genetic D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313080" cy="3746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What Can I do to Help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cle your Mobile Ph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pressure on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reputabl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mand exotic f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ead the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mand wild animals as p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mand exotic products and medic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Fact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 much as 10 tonnes of bushmeat arrives in London every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By the year 2020 humans will be the only Great Ape living in the w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500 million mobile phones will be sold this year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"/>
              </a:rPr>
              <a:t>90 % of the Eastern Lowland Gorilla population was lost in the last 5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 Million tonnes of bushmeat is removed from the Congo Basin alone each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748720" cy="597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60" y="1052640"/>
            <a:ext cx="172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Look at My Eyes ... Listen to Me ...</a:t>
            </a:r>
            <a:br>
              <a:rPr sz="2400"/>
            </a:b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For I and my kind will be gone soon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20880" y="5877000"/>
            <a:ext cx="282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: The Bushmeat Projec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bushmeat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4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1:41:25Z</dcterms:created>
  <dc:creator>michael</dc:creator>
  <dc:description/>
  <dc:language>en-US</dc:language>
  <cp:lastModifiedBy>michael</cp:lastModifiedBy>
  <dcterms:modified xsi:type="dcterms:W3CDTF">2003-08-20T08:11:58Z</dcterms:modified>
  <cp:revision>3</cp:revision>
  <dc:subject/>
  <dc:title>The BUSHMEAT  CRISIS</dc:title>
</cp:coreProperties>
</file>