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explode.wav" ContentType="audio/x-wav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cashreg.wav" ContentType="audio/x-wav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DC6-2654-4B4B-B380-D9C914EC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D4DB-3FFA-4083-9905-9F43B565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447C-EE72-490F-9053-3838CE3A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BBF1-448A-4437-B14B-DAB3924A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8F0D-E9B6-4159-9833-E4ABEF2C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4B32-DECC-4DF3-900D-3471D2AC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5E2E-C6FD-4A95-8FF5-7C3C4A5B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58BC-46F9-4B54-A53D-0509C821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100C-2054-4780-B7E6-5CC822F3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AB12-B290-4ED7-91B0-EF334D52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CF85-C4F8-4F8D-BAD5-7A941726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E243-4E6B-4F7D-95F5-3A103B08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2F62-7227-481B-9E99-489F1327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6AE9-04BD-4E5D-A04F-5153C09F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7067-A6D6-4C96-A986-76A98896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5E9C-2B2B-43E9-861B-6EA27E85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1C17-7146-4456-9637-DAF041B7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CC3C-7277-47E1-AF56-431417F9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4AB-975F-4CC3-9EC0-EAE7F1E0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CBF6-3937-4CBD-847C-F229142F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F2E6-B38B-4789-819D-5541888D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FA73-26AF-41BD-BD9B-D7D2F235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EB9-6584-45C5-B068-30D8BB9E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7EBE-2880-475C-96E7-65DCAEED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9726-455D-440F-AA52-A4F00A3117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6C77-D5B3-4B07-9F5E-4546166700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000000"/>
                </a:solidFill>
                <a:uFillTx/>
                <a:latin typeface="Cooper Black"/>
              </a:rPr>
              <a:t>BUSHMEAT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360" y="3284640"/>
            <a:ext cx="71816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pperplate Gothic Bold"/>
              </a:rPr>
              <a:t>A CURRENT WILDLIF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0021"/>
                </a:solidFill>
                <a:latin typeface="Stencil"/>
              </a:rPr>
              <a:t>C R I S I 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animMotion origin="layout" path="M 0 0 C -0.022 -0.02267 -0.033 -0.06133 -0.027 -0.1 C -0.024 -0.11333 -0.02 -0.12667 -0.014 -0.13733 C -0.01 -0.10667 0.004 -0.07867 0.025 -0.06133 C 0.025 -0.09867 0.041 -0.13467 0.068 -0.15067 C 0.077 -0.15733 0.087 -0.16 0.097 -0.16133 C 0.082 -0.13867 0.074 -0.10667 0.077 -0.07333 C 0.099 -0.09733 0.13 -0.10267 0.157 -0.08533 C 0.166 -0.08 0.175 -0.07067 0.181 -0.06133 C 0.158 -0.064 0.134 -0.052 0.117 -0.028 C 0.144 -0.02 0.167 0.008 0.174 0.04667 C 0.176 0.06 0.176 0.07333 0.174 0.08667 C 0.161 0.06133 0.139 0.044 0.115 0.04133 C 0.127 0.07467 0.124 0.116 0.106 0.14667 C 0.099 0.15733 0.091 0.16667 0.082 0.172 C 0.089 0.14267 0.085 0.10933 0.072 0.08267 C 0.06 0.116 0.034 0.13867 0.004 0.13867 C -0.007 0.13867 -0.017 0.136 -0.026 0.13067 C -0.004 0.12 0.013 0.09467 0.021 0.064 C -0.007 0.072 -0.036 0.06 -0.055 0.02933 C -0.062 0.01733 -0.066 0.00533 -0.069 -0.008 C -0.049 0.00933 -0.023 0.012 0 0 Z">
                                      <p:cBhvr>
                                        <p:cTn id="11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he Bushmeat Crisi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ushm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eat derived from forest wild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ny wildlife species in Africa and A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ultural signific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Many endangered 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Local and International delic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Corruption and Pro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1052280"/>
            <a:ext cx="27972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i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late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836800"/>
            <a:ext cx="4824360" cy="3110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572000" y="674640"/>
            <a:ext cx="2232000" cy="1676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Ba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ffb7"/>
                </a:solidFill>
                <a:latin typeface="Calisto MT"/>
              </a:rPr>
              <a:t>Mining of Coltan (Tantalum)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sed in the manufacture of miniature electronic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obile Phones, Laptops and Game-bo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arge deposits in DRC National P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llegal mining by thousands of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ilitary corruption; Rebel figh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emand for Coltan related to demand for Mobile Ph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250" autoRev="1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Calisto MT"/>
              </a:rPr>
              <a:t>Tantalum: World Price 1995 - 2001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302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 Price for Tantalum in 2000 topped $300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of x 10 from 19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l to $ 45 US in 200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211640" y="1413000"/>
          <a:ext cx="462456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13000"/>
                    <a:ext cx="462456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4400" y="2924280"/>
          <a:ext cx="3876480" cy="260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0" y="2924280"/>
                    <a:ext cx="387648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  <p:sndAc>
      <p:stSnd>
        <p:snd r:embed="rId5" name="cashreg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900"/>
                            </p:stCondLst>
                            <p:childTnLst>
                              <p:par>
                                <p:cTn id="123" nodeType="afterEffect" fill="hold" presetClass="exit" presetID="4" presetSubtype="16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12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8" presetSubtype="16">
                                  <p:stCondLst>
                                    <p:cond delay="3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6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xit" presetID="5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Georgia"/>
              </a:rPr>
              <a:t>By-Products of the Crisi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165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 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bitat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ease Transmission (e.g. S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Genetic D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292720" y="2205000"/>
            <a:ext cx="3313080" cy="3746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What Can I do to Help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ycle your Mobile Ph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pressure on Gover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reputabl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demand exotic f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ead the 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demand wild animals as p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demand exotic products and medici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Fact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s much as 10 tonnes of bushmeat arrives in London every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By the year 2020 humans will be the only Great Ape living in the w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500 million mobile phones will be sold this year al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90 % of the Eastern Lowland Gorilla population was lost in the last 5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 Million tonnes of bushmeat is removed from the Congo Basin alone each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748720" cy="5976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68360" y="1052640"/>
            <a:ext cx="172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Look at My Eyes ... Listen to Me ...</a:t>
            </a:r>
            <a:br>
              <a:rPr sz="2400"/>
            </a:b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For I and my kind will be gone soon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20880" y="5877000"/>
            <a:ext cx="282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om: The Bushmeat Projec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bushmeat.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45">
                                  <p:stCondLst>
                                    <p:cond delay="3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84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01:41:25Z</dcterms:created>
  <dc:creator>michael</dc:creator>
  <dc:description/>
  <dc:language>en-US</dc:language>
  <cp:lastModifiedBy>michael</cp:lastModifiedBy>
  <dcterms:modified xsi:type="dcterms:W3CDTF">2003-08-20T08:11:58Z</dcterms:modified>
  <cp:revision>3</cp:revision>
  <dc:subject/>
  <dc:title>The BUSHMEAT  CRISIS</dc:title>
</cp:coreProperties>
</file>